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37F3-60F6-488F-98D4-D0A4ABA78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AA38-872A-4896-B9EC-7B3EA1560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85F4-EB8F-41AB-8A00-90D016CFD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8FE2-FB9A-4E9F-9E0F-9375ED339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E047-86AF-4184-9F35-91C176613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EB77-F6B2-45A5-BC16-FEB354E39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4A37-274C-49E4-B9E0-AFB359931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CD2B-69DB-4C18-91C2-18153F1DA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6C99-4CDD-4125-9055-DA828D3EB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7C12-CBF0-4D79-AE3D-F9DAB2E8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DEB4-F8D9-4FD3-A95B-6BECCA95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A5DE-4084-4D83-B91E-F239EF97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6FB9E-A94F-4505-AEA1-B88D1118D8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069280" y="2743200"/>
            <a:ext cx="2887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nent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2720" y="228240"/>
            <a:ext cx="65149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MODELING EXPONENTIAL GROWTH FUN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2432160" y="2209680"/>
            <a:ext cx="240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y =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(1 + </a:t>
            </a:r>
            <a:r>
              <a:rPr b="1" lang="en-US" sz="3200" spc="-1" strike="noStrike">
                <a:solidFill>
                  <a:srgbClr val="0070c0"/>
                </a:solidFill>
                <a:latin typeface="Comic Sans MS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en-US" sz="3200" spc="-1" strike="noStrike" baseline="30000">
                <a:solidFill>
                  <a:srgbClr val="00b050"/>
                </a:solidFill>
                <a:latin typeface="Comic Sans MS"/>
              </a:rPr>
              <a:t>t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380880" y="2743200"/>
            <a:ext cx="6248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a real life quantity increases by a fixed percent each year (or other time period), the amount of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y of the quantity after </a:t>
            </a:r>
            <a:r>
              <a:rPr b="0" i="1" lang="en-US" sz="2800" spc="-1" strike="noStrike">
                <a:solidFill>
                  <a:srgbClr val="00b050"/>
                </a:solidFill>
                <a:latin typeface="Comic Sans MS"/>
              </a:rPr>
              <a:t>t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years can be modeled by the equ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y = </a:t>
            </a:r>
            <a:r>
              <a:rPr b="1" i="1" lang="en-US" sz="28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(1 + </a:t>
            </a:r>
            <a:r>
              <a:rPr b="1" i="1" lang="en-US" sz="2800" spc="-1" strike="noStrike">
                <a:solidFill>
                  <a:srgbClr val="0070c0"/>
                </a:solidFill>
                <a:latin typeface="Comic Sans MS"/>
              </a:rPr>
              <a:t>r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i="1" lang="en-US" sz="2800" spc="-1" strike="noStrike" baseline="30000">
                <a:solidFill>
                  <a:srgbClr val="00b050"/>
                </a:solidFill>
                <a:latin typeface="Comic Sans MS"/>
              </a:rPr>
              <a:t>t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533520" y="5638680"/>
            <a:ext cx="5790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this model, </a:t>
            </a:r>
            <a:r>
              <a:rPr b="0" i="1" lang="en-US" sz="28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Comic Sans MS"/>
              </a:rPr>
              <a:t>is the initial amount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-US" sz="2800" spc="-1" strike="noStrike">
                <a:solidFill>
                  <a:srgbClr val="0070c0"/>
                </a:solidFill>
                <a:latin typeface="Comic Sans MS"/>
              </a:rPr>
              <a:t>r is the percent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increase expressed as a decimal.  The quantity 1 + r is called the growth fac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OMPOUND INTEREST A =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P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(1 +    )</a:t>
            </a:r>
            <a:r>
              <a:rPr b="1" lang="en-US" sz="4000" spc="-1" strike="noStrike" baseline="30000">
                <a:solidFill>
                  <a:srgbClr val="7030a0"/>
                </a:solidFill>
                <a:latin typeface="Comic Sans MS"/>
              </a:rPr>
              <a:t>n</a:t>
            </a:r>
            <a:r>
              <a:rPr b="1" lang="en-US" sz="4000" spc="-1" strike="noStrike" baseline="30000">
                <a:solidFill>
                  <a:srgbClr val="00b050"/>
                </a:solidFill>
                <a:latin typeface="Comic Sans MS"/>
              </a:rPr>
              <a:t>t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sider an initial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rincipal </a:t>
            </a:r>
            <a:r>
              <a:rPr b="0" i="1" lang="en-US" sz="3200" spc="-1" strike="noStrike">
                <a:solidFill>
                  <a:srgbClr val="ff0000"/>
                </a:solidFill>
                <a:latin typeface="Comic Sans MS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 deposited in an account that pays interest at an annual rate </a:t>
            </a:r>
            <a:r>
              <a:rPr b="0" i="1" lang="en-US" sz="3200" spc="-1" strike="noStrike">
                <a:solidFill>
                  <a:srgbClr val="0070c0"/>
                </a:solidFill>
                <a:latin typeface="Comic Sans MS"/>
              </a:rPr>
              <a:t>r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 (expressed as a decimal), </a:t>
            </a:r>
            <a:r>
              <a:rPr b="0" i="1" lang="en-US" sz="3200" spc="-1" strike="noStrike">
                <a:solidFill>
                  <a:srgbClr val="7030a0"/>
                </a:solidFill>
                <a:latin typeface="Comic Sans MS"/>
              </a:rPr>
              <a:t>compounded n times per year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.  The amount A in the account after </a:t>
            </a:r>
            <a:r>
              <a:rPr b="0" i="1" lang="en-US" sz="3200" spc="-1" strike="noStrike">
                <a:solidFill>
                  <a:srgbClr val="00b050"/>
                </a:solidFill>
                <a:latin typeface="Comic Sans MS"/>
              </a:rPr>
              <a:t>t years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can be modeled by this equation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Object 2"/>
              <p:cNvSpPr txBox="1"/>
              <p:nvPr/>
            </p:nvSpPr>
            <p:spPr>
              <a:xfrm>
                <a:off x="3540240" y="990720"/>
                <a:ext cx="92052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MODELING EXPONENTIAL DECAY FUN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560" y="2743200"/>
            <a:ext cx="6172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a real life quantity decreases by a fixed percent each year (or other time period), the amount of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y of the quantity after </a:t>
            </a:r>
            <a:r>
              <a:rPr b="0" i="1" lang="en-US" sz="3200" spc="-1" strike="noStrike">
                <a:solidFill>
                  <a:srgbClr val="ff0000"/>
                </a:solidFill>
                <a:latin typeface="Comic Sans MS"/>
              </a:rPr>
              <a:t>t years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can be modeled by the equation y = </a:t>
            </a:r>
            <a:r>
              <a:rPr b="0" i="1" lang="en-US" sz="32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(1 - </a:t>
            </a:r>
            <a:r>
              <a:rPr b="0" i="1" lang="en-US" sz="3200" spc="-1" strike="noStrike">
                <a:solidFill>
                  <a:srgbClr val="0070c0"/>
                </a:solidFill>
                <a:latin typeface="Comic Sans MS"/>
              </a:rPr>
              <a:t>r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i="1" lang="en-US" sz="3200" spc="-1" strike="noStrike" baseline="30000">
                <a:solidFill>
                  <a:srgbClr val="00b050"/>
                </a:solidFill>
                <a:latin typeface="Comic Sans MS"/>
              </a:rPr>
              <a:t>t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2057400" y="213372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 =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1 - </a:t>
            </a: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en-US" sz="2800" spc="-1" strike="noStrike" baseline="30000">
                <a:solidFill>
                  <a:srgbClr val="00b050"/>
                </a:solidFill>
                <a:latin typeface="Comic Sans MS"/>
              </a:rPr>
              <a:t>t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609480" y="6400800"/>
            <a:ext cx="5943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this model, </a:t>
            </a:r>
            <a:r>
              <a:rPr b="0" i="1" lang="en-US" sz="2800" spc="-1" strike="noStrike">
                <a:solidFill>
                  <a:srgbClr val="ff0000"/>
                </a:solidFill>
                <a:latin typeface="Comic Sans MS"/>
              </a:rPr>
              <a:t>a is the initial amount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-US" sz="2800" spc="-1" strike="noStrike">
                <a:solidFill>
                  <a:srgbClr val="0070c0"/>
                </a:solidFill>
                <a:latin typeface="Comic Sans MS"/>
              </a:rPr>
              <a:t>r is the percent decrease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expressed as a decimal.  The quantity 1 – r is called the decay fac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MODELING EXPONENTIAL DECA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61722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AUTOMOBILES:  You buy a new car for $24,000.  The value y of the car decreases by 16% each ye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457200" y="3809880"/>
            <a:ext cx="6400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) Write a exponential decay model for the value of the car.  Use the model to estimate the value after 2 yea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609480" y="563868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b) Graph the mode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457200" y="6248520"/>
            <a:ext cx="563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)  Use the graph to estimate when the car will have a value of $12,00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MODELING EXPONENTIAL GROWT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6858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TERNET HOSTS:  In January, 1993, there were about 1,313,000 Internet hosts.  During the next five years, the number of hosts increased by 100% per yea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304920" y="4495680"/>
            <a:ext cx="655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)  Write a model giving the number h (in millions) of hosts t years after 1993.  About how many hosts were in 1996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511560" y="6477120"/>
            <a:ext cx="342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b) Graph the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380880" y="7162920"/>
            <a:ext cx="6019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)  Use the graph to estimate the year when there were 30 million hos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1T12:12:12Z</dcterms:created>
  <dc:creator>sraja</dc:creator>
  <dc:description/>
  <dc:language>en-US</dc:language>
  <cp:lastModifiedBy>sraja</cp:lastModifiedBy>
  <dcterms:modified xsi:type="dcterms:W3CDTF">2011-04-21T13:59:43Z</dcterms:modified>
  <cp:revision>11</cp:revision>
  <dc:subject/>
  <dc:title>MODELING EXPONENTIAL GROWTH FUNCTION</dc:title>
</cp:coreProperties>
</file>